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8D570-8A04-470C-AF37-EF00B347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E824-9B9B-4C17-86D2-8EE180A1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FEABC-D471-4BCF-9DC6-9140E93B4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B5C92-85D5-41F0-BEBC-F946A9A43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659BA7B-F210-491B-959B-ACD2663DB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EFBCBB-BEE2-413D-BFD4-289E0ECD7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DF6B33-33D7-48AC-AA82-0EEFD7FE9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A152D2-E9E7-48D8-AF6D-1D801FAA6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0E525E-D715-429B-8A6F-E8F27F99E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886699-7DF1-4A0C-A9AE-D9375BF77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19E55A-5A04-41B3-8940-0ED4BCDEA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994EA-BC58-4842-9447-B433D4BB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48E15C-3C28-483F-8F5E-5BD11ED8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B43D7D-4997-4DEA-9C45-C18F7AF35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D99FDF-302F-479D-B8FA-F36C2EB4F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722460-873D-433C-B064-B64BFCDE4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90F852-4983-423A-A9B8-175D6E7C3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41D9-551C-4BEC-B652-5E9D1FB9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1E74B-70F9-4CE5-9BD1-9F37DF0E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6435-58FF-4C63-AB0B-A0E6B614C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F548-C7BD-4A5B-931B-C24C64E9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C31C-3EFE-495F-8530-A3F0DC3B0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03B3-1284-4169-97AC-948D336A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D486-3454-4B72-A9E9-3FEBB1333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1D68-64A8-430F-AF4B-A4DA29DE40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CBBC-0997-4335-8CDE-5AE94950D5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371600" y="3428640"/>
            <a:ext cx="6400800" cy="205740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ort Stories</a:t>
            </a: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t Portfolio Presentation</a:t>
            </a:r>
            <a:br>
              <a:rPr sz="1600"/>
            </a:b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yl Grace A. Namuag</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y Marie L. Navarro</a:t>
            </a:r>
            <a:br>
              <a:rPr sz="1600"/>
            </a:b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txBox="1"/>
          <p:nvPr/>
        </p:nvSpPr>
        <p:spPr>
          <a:xfrm>
            <a:off x="1219320" y="1066680"/>
            <a:ext cx="67053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nit Summary</a:t>
            </a:r>
            <a:endParaRPr b="0" lang="en-US" sz="4400" spc="-1" strike="noStrike">
              <a:solidFill>
                <a:srgbClr val="e3e3ff"/>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ture represents a language or a people: culture and tradition. But, literature is more important than just a historical or cultural artifact. Literature introduces us to new worlds of experience. We learn about books; we enjoy the comedies and the tragedies of poems, stories, and plays; and we may even grow and evolve through our literary journey with books. It is through reading such great literary and poetic works, that one understands life. They help a person take a closer look at the different facets of life. In many ways, it can change one's perspective towards life. And finds connections between the book and the outside world. Connects the reading to things in their own life, other people, other stories or books, happenings at school, or similar events from other times and places. Shares their connections with the group and asks for comments from the gro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urriculum-Framing Questions</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sential Ques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y is it important to study literatu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 Ques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literature meet the interest of the stud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y do we read literary work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Ques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re the elements of the literatu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oject Approaches</a:t>
            </a:r>
            <a:endParaRPr b="0" lang="en-US" sz="4400" spc="-1" strike="noStrike">
              <a:solidFill>
                <a:srgbClr val="e3e3ff"/>
              </a:solidFill>
              <a:latin typeface="Arial"/>
            </a:endParaRPr>
          </a:p>
        </p:txBody>
      </p:sp>
      <p:sp>
        <p:nvSpPr>
          <p:cNvPr id="12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construct meaning as they comprehend, interpret, analyze and respond to literary work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recognize and evaluate how language, literary devices, and elements contribute to the meaning and impact of literary works.</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reflect upon their literary experiences and purposefully select from a range of work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interact with print and non-print literary works from various cultures, ethnic groups, traditional and contemporary viewpoints written by both gender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udents use literary works to enrich personal experience and to connect to the broader world of ideas concepts and issues. </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dents will present a documentation of the story that they have chosen through power point presentation.</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21</a:t>
            </a:r>
            <a:r>
              <a:rPr b="1" lang="en-US" sz="4400" spc="-1" strike="noStrike" baseline="30000">
                <a:solidFill>
                  <a:srgbClr val="e3e3ff"/>
                </a:solidFill>
                <a:latin typeface="Arial"/>
              </a:rPr>
              <a:t>st</a:t>
            </a:r>
            <a:r>
              <a:rPr b="1" lang="en-US" sz="4400" spc="-1" strike="noStrike">
                <a:solidFill>
                  <a:srgbClr val="e3e3ff"/>
                </a:solidFill>
                <a:latin typeface="Arial"/>
              </a:rPr>
              <a:t> Century Learning</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llaborating with pe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nalyzing the sto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story and identify, from memory or rereading the text, the setting, main character, minor character, and plo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mmunicating with others through giving feedback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Gauging Student Needs Assessment</a:t>
            </a:r>
            <a:endParaRPr b="0" lang="en-US" sz="3600" spc="-1" strike="noStrike">
              <a:solidFill>
                <a:srgbClr val="e3e3ff"/>
              </a:solidFill>
              <a:latin typeface="Arial"/>
            </a:endParaRPr>
          </a:p>
        </p:txBody>
      </p:sp>
      <p:sp>
        <p:nvSpPr>
          <p:cNvPr id="133"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of the Assessment</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gather information about what students </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know and what they wonder about</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stories.</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 want to learn from my students?</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o find out what they already know about the Unit Questions</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what they know about the elements of literature.</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I have tried to promote higher-order thinking?</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sk students to make their own short story and make reflection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Gauging Student Needs Assessment</a:t>
            </a:r>
            <a:endParaRPr b="0" lang="en-US" sz="36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the assessment information helps me and my students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upcoming activities in the unit?</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tudents experience discouragements and hardship, I can</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hort stories that will encourage them. If the students will</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the difficulty of identifying elements of literature, I can discus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have individual consultations in clas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feedback or additional ideas I’d like?</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help assessing students’ higher-order thinking skill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need some strategies so that it is easy for the students to</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stand the short stories without having individual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ltation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y Goal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different short stories that wil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e my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ways to get my students to do m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order thi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tudents will create their own short s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ve A Nice Day!</a:t>
            </a:r>
            <a:endParaRPr b="0" lang="en-US" sz="7200" spc="-1" strike="noStrike">
              <a:solidFill>
                <a:srgbClr val="ffffff"/>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od Bless!</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9:21:41Z</dcterms:created>
  <dc:creator>nave1386</dc:creator>
  <dc:description/>
  <dc:language>en-US</dc:language>
  <cp:lastModifiedBy>nave1386</cp:lastModifiedBy>
  <dcterms:modified xsi:type="dcterms:W3CDTF">2010-09-23T19:33:22Z</dcterms:modified>
  <cp:revision>10</cp:revision>
  <dc:subject/>
  <dc:title>Slide 1</dc:title>
</cp:coreProperties>
</file>